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8C02B-9318-45C1-92DD-8B304F3822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8D8-3DD6-40DD-B700-4E348A0C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95A-9195-485F-B779-94A0350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6EB-C2AB-45E4-95B9-57F68BA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261-777B-4185-93DC-C49C59F3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7F5-CEFD-4901-A5A4-1871E10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C3F-03C0-44CA-9C7C-F1399F90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63E-84E5-4777-AE61-160DDCE7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C5C-4973-44A7-A9BB-AF8086B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CBA-9DF3-4C0B-8834-864B5AB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24D-FAF5-4A03-92C6-22252BD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258-8596-4CBD-8F75-71B8D40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749-044E-4389-82DC-FC6E8A4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A0E85-E90B-4664-9CC3-E6B8233E5D6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00360" y="1770120"/>
            <a:ext cx="5940360" cy="4172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forzamiento de las poblacio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Arial"/>
              </a:rPr>
              <a:t>Artemisia granat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0000" y="6300720"/>
            <a:ext cx="687564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ía Vela Camp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s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ción 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e de interés económico y etnobotánico (uso medic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 de cultivo en el Banco de germoplasma del Jardín Botánico de Córd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a a varios programas de conservación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Conservación de hábitats con flora amenazada de Sierra Nevada, Programa de Recuperación de las altas cumbres de Sª Nevad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79640" y="179280"/>
            <a:ext cx="7740360" cy="702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5759280"/>
            <a:ext cx="6669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Arial"/>
              </a:rPr>
              <a:t>Artemisia granat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160720"/>
            <a:ext cx="61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zanilla de Sierra Nevada, manzanilla rea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MPOSITA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nsidera amenazada desde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eligro de extinción (Junta de Andaluc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eligro Crítico (CR;UI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2519280"/>
            <a:ext cx="3240000" cy="296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619280"/>
            <a:ext cx="9539280" cy="5580000"/>
          </a:xfrm>
          <a:prstGeom prst="roundRect">
            <a:avLst>
              <a:gd name="adj" fmla="val 28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ividad vegetativa desde el mes de Mayo. Floración Junio-Agosto. Madurez de las semillas Agosto y Septie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emóc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ogá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ja tasa de fertilidad(semillas/capítulo) (23.3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yor tasa reproductora (hasta 73 capítulos con 62-100 flores/capítulo (En pob </a:t>
            </a:r>
            <a:r>
              <a:rPr b="0" i="1" lang="es-ES_tradnl" sz="3000" spc="-1" strike="noStrike">
                <a:solidFill>
                  <a:srgbClr val="000000"/>
                </a:solidFill>
                <a:latin typeface="Arial"/>
              </a:rPr>
              <a:t>ex-sit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sas máximas de germinación del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80000" y="2639880"/>
            <a:ext cx="251316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3419640"/>
            <a:ext cx="5219640" cy="37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500720" cy="377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1619280"/>
            <a:ext cx="936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480" bIns="450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va de las cumbres de Sierra Nevada (Granada y Almería), dentro del Parque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 menos 11 poblaciones  muy dispersas en lugares inaccesibles  y algunos ejemplares aisl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nos de 2000 individuos reproduct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ribución y dem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0720" y="5529240"/>
            <a:ext cx="3633840" cy="185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0000"/>
            <a:ext cx="504036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360" y="1389240"/>
            <a:ext cx="88200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stizales,  lugares secos y pedregosos, cascajares y grietas de rocas (micaesquistos), a veces en lugares inacce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vive con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rmathophyla purpurea, Erigeron frigidus, Leontodon boryi, Thymus serpylloides, Viola crassiuscula, Chaenorrhinum glareosum, Festuca clementei, Trisetum glacial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sde (2.500) 2.700 m hasta 3.300 en los pisos oromediterráneo y crioromediterrán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rtamiento Ec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iesgos y agentes de pertur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60720" y="2879640"/>
            <a:ext cx="7851600" cy="19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2879640"/>
            <a:ext cx="1892520" cy="19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00720" y="4948200"/>
            <a:ext cx="358956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entes Bibliográfica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lora amenazada y endémica de Sª Nevada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bro rojo de la flora amenazada de Andalu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las y libro rojo de la Flora Vascular Amenazada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9640" y="4319640"/>
            <a:ext cx="200988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forzami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actuales poblaciones están dentro de una zona proteg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jo número de individuos reproductores, poblaciones inv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ones: inaccesibilidad, necesidad de dotar a la zona de gran control, no hay datos de nº de individuos/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9:23:27Z</dcterms:created>
  <dc:creator>María Vela Campoy</dc:creator>
  <dc:description/>
  <dc:language>en-US</dc:language>
  <cp:lastModifiedBy/>
  <cp:revision>1</cp:revision>
  <dc:subject/>
  <dc:title/>
</cp:coreProperties>
</file>